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comments/comment2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مستخدم مقتنع بـ Microsoft Office" initials="ممبMO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29.xml><?xml version="1.0" encoding="utf-8"?>
<p:cmLst xmlns:p="http://schemas.openxmlformats.org/presentationml/2006/main">
  <p:cm authorId="0" dt="2002-09-21T13:39:01.000000000" idx="1">
    <p:pos x="-1583" y="309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1080" y="8685000"/>
            <a:ext cx="29689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C214F-1E30-4E17-868F-89DF002D10A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67C38-DCA5-4017-A980-F39F39FE43B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43EE7-058B-420D-A22B-B9BE68DC19F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B2425-0A91-43F7-9E11-B08CED3578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CDD60-95ED-4B5F-8E73-E3C3A34FA3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5820B-6FF8-49ED-AC01-ABFD0EBEC21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50500-9B85-44C9-80E6-7420A0CF5E0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AD9E9-8FE5-40EE-9F36-CD8E239928A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D73FD-2D1F-4050-8C98-8EACEF64A3A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2B203-D639-46D2-BCFC-BC692792B81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6A939-FFAF-4184-9117-09652EE1241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02473-A5A6-48DB-865E-0FDA2F5AC45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DA20F-B89A-44F0-9AD4-9016FE00180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39402-1D12-4C0C-9834-80D1CF7A385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A67D9-0DA7-4490-B5F9-76534CD7A3F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CADF1-F0DD-4F31-937C-A3715221417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38C75-7272-4C35-B0FC-C8FE5ABA744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BB8B8-4E9A-4C16-A682-B4458E8CCDD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A9390-05EE-4D5E-A7B3-5057091B862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FEE62-662D-47FA-B32F-03A65BE3502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DEA88-E13B-4C07-830D-D804442631A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B73B5-2D10-4EFC-A605-983B84A674D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9A4B1-5384-423C-BC8E-AD00208F1A0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4A156-43DA-44B5-ACE4-4F8C82E6522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645A9-5353-474D-BCF6-10BB9E4408C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7D96E-7261-49F1-BA71-23ECDD2119F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3F9F2-33C3-4EA3-A196-2F73B3290D5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6AE2C-347F-4D16-9A84-C97B5B51011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6DB07-0E9F-46B6-B58F-F22B863A5FF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743F4-438F-423A-AEBF-29C355FBF28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187AF-C705-4D14-B22B-5DF6668B304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9D1F1-0941-4FC5-810C-985D0D22DE1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E3844-8354-47F6-9AC4-1CE422F225A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22F04-470D-4890-83F2-10FB014D976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CAF46-5E31-4056-8057-ED2801E175B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F1771-6E1D-4DA8-A8F3-0BD7FB9FC7A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28C7C-7004-43A0-BAF5-44D7DD10C7F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4BEE0-BF1A-4BD4-A1F6-59CA3FBE078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984B1-7EEB-4FD8-94E4-D08578BED85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8AD6-DB65-41A6-9B68-66AD3C83D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DB63-043C-4BFF-9599-FC5B571AA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571F-2402-44EB-A4DD-D75C1D7E0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4908-D115-4333-974A-9CF8DA2998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FB56-073A-423D-BCB7-E71CE5B8E2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8219-0598-494B-8D69-C6EDC4FC9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DF56-A02C-422F-9F2C-BDC16D0FB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826D-F057-4DF2-BF6A-32906A798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8226360" cy="63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8AA9-7C4F-4C76-9524-4B1B25F0A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6C53-0BA9-4D36-A3F8-4A7AD8F0E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72EC-60F6-4B5F-BB5B-1217BA3D6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7A72-3229-4C51-9F44-E41D18821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5539F-3AE0-470B-A7BD-258021EAE41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9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D6DD9-29B3-4CF2-AC66-FA4ECCC4B46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66560" y="398520"/>
            <a:ext cx="7772400" cy="1143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roadway"/>
              </a:rPr>
              <a:t>MARKETING 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63640" y="2133720"/>
            <a:ext cx="54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6000" spc="-1" strike="noStrike">
                <a:solidFill>
                  <a:srgbClr val="00ccff"/>
                </a:solidFill>
                <a:latin typeface="Arabic Typesetting"/>
              </a:rPr>
              <a:t>الخطة التسويقية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132000" y="587700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B0039-B9C2-48EF-94FB-E99BEB0E3D9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539640" y="7650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6240" algn="r" rtl="1">
              <a:spcBef>
                <a:spcPts val="1100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 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تحليل المشكلات والمعوقات داخل المنشأة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 algn="r" rtl="1">
              <a:spcBef>
                <a:spcPts val="1100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 algn="r" rtl="1">
              <a:spcBef>
                <a:spcPts val="1100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 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تحويل المعطيات الخارجية إلى فرص تسويقية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0DEC7-9386-43C1-85A1-365022978AE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15271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تطوير الاستراتيجية الحالية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519120" y="3645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6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وضع خطة تعاون متكاملة لإتمام العمل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692360" y="2421000"/>
            <a:ext cx="648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598760" y="1841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5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وضع خطة تسويق متكاملة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41125-1EF9-4628-910B-B2D55A9E4B5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9144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7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وضع خطة تنفيذ لعمليات التسويق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3429000"/>
            <a:ext cx="8229600" cy="2016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13d955"/>
                </a:solidFill>
                <a:latin typeface="Courier New"/>
                <a:cs typeface="Tahoma"/>
              </a:rPr>
              <a:t>جميع هذه القرارات أو بعضها يعتبر استراتيجياً والبعض الآخر تنظيميا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95280" y="1628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8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المراقبة المستمرة والتوجيه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71A40-6484-49AC-AB67-A4D8AEE276C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3419640" y="2739960"/>
            <a:ext cx="2016000" cy="901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3d955"/>
                </a:solidFill>
                <a:latin typeface="Tahoma"/>
              </a:rPr>
              <a:t>SWOT</a:t>
            </a:r>
            <a:r>
              <a:rPr b="1" lang="en-US" sz="2400" spc="-1" strike="noStrike">
                <a:solidFill>
                  <a:srgbClr val="13d955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3d955"/>
                </a:solidFill>
                <a:latin typeface="Tahoma"/>
              </a:rPr>
              <a:t>  </a:t>
            </a:r>
            <a:r>
              <a:rPr b="1" lang="ar-SA" sz="2400" spc="-1" strike="noStrike">
                <a:solidFill>
                  <a:srgbClr val="13d955"/>
                </a:solidFill>
                <a:latin typeface="Tahoma"/>
              </a:rPr>
              <a:t>ق ض ف 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556000" y="969840"/>
            <a:ext cx="3456000" cy="82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ffcc00"/>
                </a:solidFill>
                <a:latin typeface="Tahoma"/>
              </a:rPr>
              <a:t>الفر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Opportun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843280" y="5373720"/>
            <a:ext cx="28083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ffcc00"/>
                </a:solidFill>
                <a:latin typeface="Tahoma"/>
              </a:rPr>
              <a:t>التحديات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hrea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121440" y="3103560"/>
            <a:ext cx="2987640" cy="82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ضعف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eakn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1280" y="3043080"/>
            <a:ext cx="2340000" cy="82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قـوة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reng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7"/>
          <p:cNvSpPr/>
          <p:nvPr/>
        </p:nvSpPr>
        <p:spPr>
          <a:xfrm>
            <a:off x="4284720" y="1413000"/>
            <a:ext cx="1440" cy="1152360"/>
          </a:xfrm>
          <a:prstGeom prst="line">
            <a:avLst/>
          </a:prstGeom>
          <a:ln w="5724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284720" y="4221000"/>
            <a:ext cx="1440" cy="1152720"/>
          </a:xfrm>
          <a:prstGeom prst="line">
            <a:avLst/>
          </a:prstGeom>
          <a:ln w="5724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2411280" y="3284640"/>
            <a:ext cx="792360" cy="1440"/>
          </a:xfrm>
          <a:prstGeom prst="line">
            <a:avLst/>
          </a:prstGeom>
          <a:ln w="5724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5292720" y="3357720"/>
            <a:ext cx="792000" cy="1440"/>
          </a:xfrm>
          <a:prstGeom prst="line">
            <a:avLst/>
          </a:prstGeom>
          <a:ln w="5724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59B68-6A15-47CA-828C-3457873A97E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457200" y="1197000"/>
            <a:ext cx="8362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تحليل نقاط الضعف ونقاط القوة في</a:t>
            </a:r>
            <a:br>
              <a:rPr sz="4000"/>
            </a:b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الشركة والفرص والتحديات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547640" y="2060640"/>
            <a:ext cx="69343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Tahoma"/>
                <a:ea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43280" y="465300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7480C-E76E-4021-AE44-E96F0C428DF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50920" y="1125360"/>
            <a:ext cx="8435880" cy="36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Times New Roman"/>
              </a:rPr>
              <a:t>إن بحوث التسويق ضرورية لمعرفة التهديدات والمخاطر في البيئة السوقية المحيطة بالشركة والتي لا يمكن السيطرة عليها وموطن الضعف والقوة التي يمكن السيطرة عليها ، من أجل التخطيط الصحيح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2B03C-3F60-4A7F-A146-602F576EAA6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457200" y="828720"/>
            <a:ext cx="82296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800" spc="-1" strike="noStrike">
                <a:solidFill>
                  <a:srgbClr val="13d955"/>
                </a:solidFill>
                <a:latin typeface="Tahoma"/>
                <a:cs typeface="Tahoma"/>
              </a:rPr>
              <a:t>تعريف بحوث التسوي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16000" y="2552760"/>
            <a:ext cx="7128000" cy="365976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badi MT Condensed Light"/>
                <a:cs typeface="Simplified Arabic"/>
              </a:rPr>
              <a:t>هي جمع وتسجيل وتحليل البيانات التسويقية المتعلقة بالمشكلة موضع البحث ودراستها واتخاذ القرار التسويقي المناسب</a:t>
            </a:r>
            <a:r>
              <a:rPr b="1" lang="en-US" sz="3600" spc="-1" strike="noStrike">
                <a:solidFill>
                  <a:srgbClr val="ffcc00"/>
                </a:solidFill>
                <a:latin typeface="Abadi MT Condensed Light"/>
                <a:ea typeface="Simplified Arabic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AD46C-F7E9-4527-992B-CF0E5D7965B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24000" y="260280"/>
            <a:ext cx="8619840" cy="8398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d4d4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ahoma"/>
                <a:cs typeface="Tahoma"/>
              </a:rPr>
              <a:t>مزايا بحوث التسوي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50920" y="1268280"/>
            <a:ext cx="8672400" cy="468180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المشك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أولويات  الأنشطة التسويق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جيدة بمواصفات السلع ومتغيرات الأسوا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استخدام الأسس العلمية في وضع الاستراتيجي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اكتشاف الفرص التسويقية في الأسوا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93594-DC24-4C93-A0D1-C538C5B0598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34920" y="189000"/>
            <a:ext cx="8964720" cy="86652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800" spc="-1" strike="noStrike">
                <a:solidFill>
                  <a:srgbClr val="32098f"/>
                </a:solidFill>
                <a:latin typeface="Tahoma"/>
                <a:cs typeface="Tahoma"/>
              </a:rPr>
              <a:t>تشمل عملية التخطيط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74920" y="155736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بدء ببحوث التسوي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1280" y="256536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وقوف على مواضع القوة والضعف في الشرك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68360" y="3573360"/>
            <a:ext cx="65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تحديد موضع الشركة في السو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-324000" y="458136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وضع الخطة التسويقية بالتركيز على مواقع القوة</a:t>
            </a: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 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في الشرك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45F48-94D7-4138-9426-84EE22AAC58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06200" y="33984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تنبؤ بحجم المبيعات المتوقع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581120" y="143496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تحديد استراتيجيات التسوي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42920" y="2532240"/>
            <a:ext cx="74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وضع الموازنة الخاصة بالتسوي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50920" y="362916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تصميم المنتج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4920" y="472608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تنفي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38200" y="5823000"/>
            <a:ext cx="79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رقابة والمتابعة للخط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F4B94-7719-480C-BDEB-CB6B038C532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144360" y="144360"/>
            <a:ext cx="8745480" cy="1913040"/>
            <a:chOff x="144360" y="144360"/>
            <a:chExt cx="8745480" cy="1913040"/>
          </a:xfrm>
        </p:grpSpPr>
        <p:sp>
          <p:nvSpPr>
            <p:cNvPr id="56" name="AutoShape 3"/>
            <p:cNvSpPr/>
            <p:nvPr/>
          </p:nvSpPr>
          <p:spPr>
            <a:xfrm>
              <a:off x="144360" y="144360"/>
              <a:ext cx="8745480" cy="191304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cc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Text Box 4"/>
            <p:cNvSpPr/>
            <p:nvPr/>
          </p:nvSpPr>
          <p:spPr>
            <a:xfrm>
              <a:off x="289080" y="662040"/>
              <a:ext cx="845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ar-SA" sz="5400" spc="-1" strike="noStrike">
                  <a:solidFill>
                    <a:srgbClr val="32098f"/>
                  </a:solidFill>
                  <a:latin typeface="Courier New"/>
                  <a:cs typeface="Courier New"/>
                </a:rPr>
                <a:t>الخطة التسويقية</a:t>
              </a: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Text Box 5"/>
          <p:cNvSpPr/>
          <p:nvPr/>
        </p:nvSpPr>
        <p:spPr>
          <a:xfrm>
            <a:off x="539640" y="3284640"/>
            <a:ext cx="8209080" cy="2908440"/>
          </a:xfrm>
          <a:prstGeom prst="rect">
            <a:avLst/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abic Transparent"/>
              </a:rPr>
              <a:t>هو عبارة عن خطة توضع لبلوغ هدف الشركة التسويق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3926E-A886-4FAC-93E8-7027C33D428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250920" y="333360"/>
            <a:ext cx="8569080" cy="792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d4d4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ahoma"/>
                <a:cs typeface="Tahoma"/>
              </a:rPr>
              <a:t>مجالات بحوث التسوي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11280" y="2205000"/>
            <a:ext cx="7772400" cy="424836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حجم وطبيعة السو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3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الأسواق الرئيس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3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اتجاهات السو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3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الحصة السوقية للشرك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3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عدد عملاء الشركة وطبيعته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059280" y="134136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1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سو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36FDE-BF19-4F02-B049-6A7CD8ECB36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900000" y="620640"/>
            <a:ext cx="77932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2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منافسو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84360" y="1989000"/>
            <a:ext cx="7772400" cy="403236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طبيعة وحجم المنافسين وتوزعه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نقاط الضعف والقوة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للمنتجات المنافسة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قارنة المنتجات المنافسة والتعرف على المنتجات الجديدة والبديلة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92F31-B92C-4079-952F-E8C943BF9A5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1179360" y="560520"/>
            <a:ext cx="70502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مبيعات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332000" y="1773360"/>
            <a:ext cx="6902280" cy="443520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ليل المبيعات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المناطق البي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فعالية السياسة التسويق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إيجاد البدائل في السو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الحصص البي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0B46D-7C14-4A72-B5B3-5D98C0FFBEE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3689280" y="828720"/>
            <a:ext cx="45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4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سلع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03240" y="1989000"/>
            <a:ext cx="7772400" cy="37544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سلع المنافس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وصف السلع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التعرف على متطلبات وحاجات المستهلك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فرص إنتاج سلع جديد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40ACA-2A6A-4701-A587-88E1ADC8D5F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042920" y="765000"/>
            <a:ext cx="779328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5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ترويج والإعلا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39640" y="1989000"/>
            <a:ext cx="8271000" cy="439272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نظرة شاملة عن الاستراتيج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أساليب الترويج المتوفرة في الأسوا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وسائل الإعلان والرسائل الإعلانية المتواجدة في الأسواق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استراتيجية التروي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AA417-280A-4809-9621-F8F3034C70B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2549520" y="898560"/>
            <a:ext cx="5756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6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توزيع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42920" y="2017800"/>
            <a:ext cx="7416720" cy="436392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استراتيجية التوزي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منافذ التوزيع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منافذ التوزيع الخاصة بالشرك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فعالية التوزيع الما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أسس اختيار الموزع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66DE4-010B-4CCA-9D1C-F3BFCC34BC7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611280" y="476280"/>
            <a:ext cx="8188200" cy="865080"/>
          </a:xfrm>
          <a:prstGeom prst="rect">
            <a:avLst/>
          </a:prstGeom>
          <a:solidFill>
            <a:srgbClr val="2b548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800" spc="-1" strike="noStrike">
                <a:solidFill>
                  <a:srgbClr val="e5ffff"/>
                </a:solidFill>
                <a:latin typeface="Tahoma"/>
                <a:cs typeface="Tahoma"/>
              </a:rPr>
              <a:t>خطوات البحث التسويقي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755640" y="2205000"/>
            <a:ext cx="7920000" cy="27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 rtl="1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تحديد الهدف من البحث وتحديد المشكلة وأسبابها بشكل دقيق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F08AC-0693-46D3-9976-88C9B465641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556000" y="260280"/>
            <a:ext cx="44812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  <a:cs typeface="Tahoma"/>
              </a:rPr>
              <a:t>تحديد المشكلة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116000" y="2133720"/>
            <a:ext cx="7551720" cy="25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40000"/>
              </a:lnSpc>
              <a:spcBef>
                <a:spcPts val="1001"/>
              </a:spcBef>
              <a:buClr>
                <a:srgbClr val="13d955"/>
              </a:buClr>
              <a:buFont typeface="Wingdings" charset="2"/>
              <a:buChar char="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العوائق التسويقي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40000"/>
              </a:lnSpc>
              <a:spcBef>
                <a:spcPts val="1001"/>
              </a:spcBef>
              <a:buClr>
                <a:srgbClr val="13d955"/>
              </a:buClr>
              <a:buFont typeface="Wingdings" charset="2"/>
              <a:buChar char="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استغلال الفرص التسويقية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0CD63-6243-44F4-9FB8-31437C9CA75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826920" y="1628640"/>
            <a:ext cx="7705800" cy="4535640"/>
          </a:xfrm>
          <a:prstGeom prst="foldedCorner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88362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e5ffff"/>
                </a:solidFill>
                <a:latin typeface="Tahoma"/>
                <a:cs typeface="Tahoma"/>
              </a:rPr>
              <a:t>خطوات تعريف المشكلة التسويقي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5564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spcBef>
                <a:spcPts val="799"/>
              </a:spcBef>
              <a:buClr>
                <a:srgbClr val="00ccff"/>
              </a:buClr>
              <a:buFont typeface="Tahoma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تعريف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مشك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spcBef>
                <a:spcPts val="799"/>
              </a:spcBef>
              <a:buClr>
                <a:srgbClr val="00ccff"/>
              </a:buClr>
              <a:buFont typeface="Tahoma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معرف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مسببات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مشك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spcBef>
                <a:spcPts val="799"/>
              </a:spcBef>
              <a:buClr>
                <a:srgbClr val="00ccff"/>
              </a:buClr>
              <a:buFont typeface="Tahoma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تعرف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بعمق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على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أعراض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مشك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spcBef>
                <a:spcPts val="799"/>
              </a:spcBef>
              <a:buClr>
                <a:srgbClr val="00ccff"/>
              </a:buClr>
              <a:buFont typeface="Tahoma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تحديد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هدف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من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دراس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والخطوات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واجب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إتباعها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لإتمام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دراس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مطلوب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B9BD5-27F5-450C-993B-A11192921A7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0" y="476280"/>
            <a:ext cx="9144000" cy="1620720"/>
          </a:xfrm>
          <a:prstGeom prst="rect">
            <a:avLst/>
          </a:prstGeom>
          <a:gradFill rotWithShape="0">
            <a:gsLst>
              <a:gs pos="0">
                <a:srgbClr val="d4d4e2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32098f"/>
                </a:solidFill>
                <a:latin typeface="Tahoma"/>
              </a:rPr>
              <a:t>عوامل أساسية لإتمام بحوث التسويق بنجا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68360" y="278136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r" rtl="1">
              <a:lnSpc>
                <a:spcPct val="110000"/>
              </a:lnSpc>
              <a:spcBef>
                <a:spcPts val="1001"/>
              </a:spcBef>
              <a:buClr>
                <a:srgbClr val="ff0066"/>
              </a:buClr>
              <a:buFont typeface="Wingdings" charset="2"/>
              <a:buChar char="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  <a:ea typeface="Tahoma"/>
              </a:rPr>
              <a:t> </a:t>
            </a:r>
            <a:r>
              <a:rPr b="1" lang="ar-SA" sz="4400" spc="-1" strike="noStrike">
                <a:solidFill>
                  <a:srgbClr val="ffcc00"/>
                </a:solidFill>
                <a:latin typeface="Tahoma"/>
                <a:cs typeface="Tahoma"/>
              </a:rPr>
              <a:t>التوقيت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  <a:ea typeface="Tahoma"/>
              </a:rPr>
              <a:t>                    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  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TI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10000"/>
              </a:lnSpc>
              <a:spcBef>
                <a:spcPts val="1001"/>
              </a:spcBef>
              <a:buClr>
                <a:srgbClr val="ff9900"/>
              </a:buClr>
              <a:buFont typeface="Arabic Transparent"/>
              <a:buChar char="£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  <a:ea typeface="Tahoma"/>
              </a:rPr>
              <a:t> </a:t>
            </a:r>
            <a:r>
              <a:rPr b="1" lang="ar-SA" sz="4400" spc="-1" strike="noStrike">
                <a:solidFill>
                  <a:srgbClr val="ff9900"/>
                </a:solidFill>
                <a:latin typeface="Tahoma"/>
                <a:cs typeface="Tahoma"/>
              </a:rPr>
              <a:t>التمويل</a:t>
            </a:r>
            <a:r>
              <a:rPr b="1" lang="en-US" sz="4400" spc="-1" strike="noStrike">
                <a:solidFill>
                  <a:srgbClr val="ff9900"/>
                </a:solidFill>
                <a:latin typeface="Tahoma"/>
                <a:ea typeface="Tahoma"/>
              </a:rPr>
              <a:t>                   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  <a:ea typeface="Tahoma"/>
              </a:rPr>
              <a:t> 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  <a:ea typeface="Tahoma"/>
              </a:rPr>
              <a:t>MONE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10000"/>
              </a:lnSpc>
              <a:spcBef>
                <a:spcPts val="1001"/>
              </a:spcBef>
              <a:buClr>
                <a:srgbClr val="5b3300"/>
              </a:buClr>
              <a:buFont typeface="Wingdings" charset="2"/>
              <a:buChar char="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3d955"/>
                </a:solidFill>
                <a:latin typeface="Tahoma"/>
                <a:ea typeface="Tahoma"/>
              </a:rPr>
              <a:t> </a:t>
            </a:r>
            <a:r>
              <a:rPr b="1" lang="ar-SA" sz="4400" spc="-1" strike="noStrike">
                <a:solidFill>
                  <a:srgbClr val="13d955"/>
                </a:solidFill>
                <a:latin typeface="Tahoma"/>
                <a:cs typeface="Tahoma"/>
              </a:rPr>
              <a:t>الدقة</a:t>
            </a:r>
            <a:r>
              <a:rPr b="1" lang="en-US" sz="4400" spc="-1" strike="noStrike">
                <a:solidFill>
                  <a:srgbClr val="13d955"/>
                </a:solidFill>
                <a:latin typeface="Tahoma"/>
                <a:ea typeface="Tahoma"/>
              </a:rPr>
              <a:t>                  </a:t>
            </a:r>
            <a:r>
              <a:rPr b="1" lang="en-US" sz="4000" spc="-1" strike="noStrike">
                <a:solidFill>
                  <a:srgbClr val="13d955"/>
                </a:solidFill>
                <a:latin typeface="Tahoma"/>
                <a:ea typeface="Tahoma"/>
              </a:rPr>
              <a:t>ACCUR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80859-02D6-47AF-8893-7CC525053FA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395280" y="189000"/>
            <a:ext cx="8280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ahoma"/>
                <a:cs typeface="Tahoma"/>
              </a:rPr>
              <a:t>قبل تحديد الهدف لا بد من الإجابة على الأسئلة التالية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  <a:ea typeface="Tahoma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4920" y="1989000"/>
            <a:ext cx="867564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ماهية الصناعة التي تمارسها الشركة</a:t>
            </a:r>
            <a:r>
              <a:rPr b="1" lang="en-US" sz="20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363760" y="2492280"/>
            <a:ext cx="634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نوعية منتجات الشرك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80960" y="350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وضع الشركة في السوق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80960" y="4437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حجم المنافس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480960" y="5300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    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زبائن الشرك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7EC93-D972-430A-B52E-1A4298887CB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468360" y="260280"/>
            <a:ext cx="82296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09640" algn="r" rtl="1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 u="sng">
                <a:solidFill>
                  <a:srgbClr val="13d955"/>
                </a:solidFill>
                <a:uFillTx/>
                <a:latin typeface="Tahoma"/>
                <a:cs typeface="Tahoma"/>
              </a:rPr>
              <a:t>الفرص تعني</a:t>
            </a:r>
            <a:r>
              <a:rPr b="1" lang="en-US" sz="3200" spc="-1" strike="noStrike" u="sng">
                <a:solidFill>
                  <a:srgbClr val="13d955"/>
                </a:solidFill>
                <a:uFillTx/>
                <a:latin typeface="Tahoma"/>
                <a:ea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أسواق (حجمها ـ تقسيماتها ـ توزيعها …..)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زبائن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حجم الطلب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تنوع المنتجات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تطور التقني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اقتصاد الوطني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منافسون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00C9E-66AA-4C4D-ABCE-3A2432991AC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09640" algn="r" rtl="1">
              <a:spcBef>
                <a:spcPts val="799"/>
              </a:spcBef>
              <a:tabLst>
                <a:tab algn="l" pos="0"/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13d955"/>
                </a:solidFill>
                <a:uFillTx/>
                <a:latin typeface="Tahoma"/>
                <a:ea typeface="Tahoma"/>
              </a:rPr>
              <a:t>  </a:t>
            </a:r>
            <a:r>
              <a:rPr b="1" lang="ar-SA" sz="3200" spc="-1" strike="noStrike" u="sng">
                <a:solidFill>
                  <a:srgbClr val="13d955"/>
                </a:solidFill>
                <a:uFillTx/>
                <a:latin typeface="Tahoma"/>
                <a:cs typeface="Tahoma"/>
              </a:rPr>
              <a:t>المعوقات تعني</a:t>
            </a:r>
            <a:r>
              <a:rPr b="1" lang="en-US" sz="3200" spc="-1" strike="noStrike" u="sng">
                <a:solidFill>
                  <a:srgbClr val="13d955"/>
                </a:solidFill>
                <a:uFillTx/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منافسة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منتجات البديلة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أسعار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انهيار الاقتصادي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أنظمة والقوانين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4A4CE-EB27-43E1-B0D1-FEB49E7B387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-433440" y="380880"/>
            <a:ext cx="9109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30000"/>
              </a:lnSpc>
              <a:buClr>
                <a:srgbClr val="660066"/>
              </a:buClr>
              <a:buFont typeface="Wingdings 3" charset="2"/>
              <a:buChar char="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ahoma"/>
              </a:rPr>
              <a:t>كيفية الوصول إلى الفرص </a:t>
            </a:r>
            <a:br>
              <a:rPr sz="4000"/>
            </a:b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  واستغلالها 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-900000" y="1844640"/>
            <a:ext cx="95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buClr>
                <a:srgbClr val="660066"/>
              </a:buClr>
              <a:buFont typeface="Wingdings 3" charset="2"/>
              <a:buChar char="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ahoma"/>
              </a:rPr>
              <a:t>كيف يمكن التغلب على التحديات </a:t>
            </a:r>
            <a:br>
              <a:rPr sz="4000"/>
            </a:b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  في الأسواق 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6360" y="3929040"/>
            <a:ext cx="8639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40000"/>
              </a:lnSpc>
              <a:buClr>
                <a:srgbClr val="660066"/>
              </a:buClr>
              <a:buFont typeface="Wingdings 3" charset="2"/>
              <a:buChar char="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ahoma"/>
              </a:rPr>
              <a:t>كيف يمكن توظيف الفرص </a:t>
            </a:r>
            <a:br>
              <a:rPr sz="4000"/>
            </a:b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  لاستخدامها كموارد هامة تستفيد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 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ahoma"/>
              </a:rPr>
              <a:t>منها الشركة 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BB4C2-09F0-445C-BFFC-5B2A8A1A156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71640" y="765000"/>
          <a:ext cx="7346880" cy="4897440"/>
        </p:xfrm>
        <a:graphic>
          <a:graphicData uri="http://schemas.openxmlformats.org/drawingml/2006/table">
            <a:tbl>
              <a:tblPr/>
              <a:tblGrid>
                <a:gridCol w="1366920"/>
                <a:gridCol w="2738160"/>
                <a:gridCol w="3241800"/>
              </a:tblGrid>
              <a:tr h="1511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0" rIns="90000" tIns="46800" bIns="46800" anchor="ctr">
                      <a:noAutofit/>
                    </a:bodyPr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4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قوي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74000" rIns="828000" tIns="46800" bIns="46800" anchor="ctr">
                      <a:noAutofit/>
                    </a:bodyPr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فر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74000" marR="82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33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ar-SA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ضعي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ar-SA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تحديدات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wheel spokes="2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D54A5-2E1C-47DC-9E5D-936C3D537BA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949320" y="2075040"/>
            <a:ext cx="8492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949320" y="2075040"/>
            <a:ext cx="8492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145040" y="2841480"/>
            <a:ext cx="4572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Courier New"/>
                <a:cs typeface="Courier New"/>
              </a:rPr>
              <a:t>هــــو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9640" y="620640"/>
          <a:ext cx="8059680" cy="5359320"/>
        </p:xfrm>
        <a:graphic>
          <a:graphicData uri="http://schemas.openxmlformats.org/drawingml/2006/table">
            <a:tbl>
              <a:tblPr/>
              <a:tblGrid>
                <a:gridCol w="216000"/>
                <a:gridCol w="593640"/>
                <a:gridCol w="1308240"/>
                <a:gridCol w="2987640"/>
                <a:gridCol w="2954160"/>
              </a:tblGrid>
              <a:tr h="1617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32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ar-SA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أنـــــــــــــــــــــــــــــــــــــــــا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ar-SA" sz="3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ضعيـف              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3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قـوي</a:t>
                      </a:r>
                      <a:r>
                        <a:rPr b="1" lang="en-US" sz="3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2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2800" spc="-1" strike="noStrike">
                          <a:solidFill>
                            <a:srgbClr val="13d955"/>
                          </a:solidFill>
                          <a:latin typeface="Times New Roman"/>
                        </a:rPr>
                        <a:t>قو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28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ضعي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600" spc="-1" strike="noStrike">
                          <a:solidFill>
                            <a:srgbClr val="13d955"/>
                          </a:solidFill>
                          <a:latin typeface="Times New Roman"/>
                        </a:rPr>
                        <a:t>نحن أقوياء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40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أ</a:t>
                      </a:r>
                      <a:r>
                        <a:rPr b="0" lang="ar-SA" sz="32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نا ضعي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2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هو قو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</a:tr>
              <a:tr h="194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2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أنا قـو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2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هو ضعي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600" spc="-1" strike="noStrike">
                          <a:solidFill>
                            <a:srgbClr val="13d955"/>
                          </a:solidFill>
                          <a:latin typeface="Times New Roman"/>
                        </a:rPr>
                        <a:t>نحن ضعفاء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74" name="Text Box 40"/>
          <p:cNvSpPr/>
          <p:nvPr/>
        </p:nvSpPr>
        <p:spPr>
          <a:xfrm rot="16200000">
            <a:off x="-155160" y="335052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00ff"/>
                </a:solidFill>
                <a:latin typeface="Tahoma"/>
              </a:rPr>
              <a:t>هــــــــــــــــــــ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17C44-F843-4377-9849-538F20BC1FB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0" y="476280"/>
            <a:ext cx="868680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09640" algn="r" rtl="1">
              <a:spcBef>
                <a:spcPts val="799"/>
              </a:spcBef>
              <a:tabLst>
                <a:tab algn="l" pos="0"/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بيئة الداخل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spcBef>
                <a:spcPts val="799"/>
              </a:spcBef>
              <a:tabLst>
                <a:tab algn="l" pos="0"/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الهيكل الإداري والتنظيمي في الشركة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الطاقات الإنتاجية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الطاقات البشرية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التمويل المالي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وضع الشركة في السوق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DBC12-A946-4DD5-923E-EE1345EA516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ffcc00"/>
                </a:solidFill>
                <a:latin typeface="Times New Roman"/>
              </a:rPr>
              <a:t>بيئة التسويق والعوامل المؤثرة فيها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457200" y="1690560"/>
            <a:ext cx="8229600" cy="4114800"/>
          </a:xfrm>
          <a:prstGeom prst="rect">
            <a:avLst/>
          </a:prstGeom>
          <a:noFill/>
          <a:ln w="936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 rtl="1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ffff99"/>
                </a:solidFill>
                <a:latin typeface="Tahoma"/>
                <a:cs typeface="Arabic Transparent"/>
              </a:rPr>
              <a:t>تتأثر المشروعات الصناعية بالعديد من العوامل المحيطة بالمشروع وهي مؤثرات خارجية وداخلية، بعض هذه العوامل يمكن السيطرة عليها والبعض لا يمكن السيطرة عليها</a:t>
            </a:r>
            <a:r>
              <a:rPr b="1" lang="en-US" sz="4400" spc="-1" strike="noStrike">
                <a:solidFill>
                  <a:srgbClr val="ffff99"/>
                </a:solidFill>
                <a:latin typeface="Tahoma"/>
                <a:ea typeface="Arabic Transparent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F6BCD-533D-4429-A6B1-81B74070966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747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6600" spc="-1" strike="noStrike">
                <a:solidFill>
                  <a:srgbClr val="e5ffff"/>
                </a:solidFill>
                <a:latin typeface="Arabic Typesetting"/>
                <a:cs typeface="Arabic Typesetting"/>
              </a:rPr>
              <a:t>وهو مزيج من الأنشطة الأربعة الأساسية</a:t>
            </a:r>
            <a:r>
              <a:rPr b="1" lang="en-US" sz="6600" spc="-1" strike="noStrike">
                <a:solidFill>
                  <a:srgbClr val="e5ffff"/>
                </a:solidFill>
                <a:latin typeface="Arabic Typesetting"/>
                <a:ea typeface="Arabic Typesetting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6836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 u="sng">
                <a:solidFill>
                  <a:srgbClr val="ffff99"/>
                </a:solidFill>
                <a:uFillTx/>
                <a:latin typeface="Courier New"/>
              </a:rPr>
              <a:t>السلعة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Courier New"/>
              </a:rPr>
              <a:t>  </a:t>
            </a:r>
            <a:r>
              <a:rPr b="1" lang="ar-SA" sz="3600" spc="-1" strike="noStrike" u="sng">
                <a:solidFill>
                  <a:srgbClr val="ffff99"/>
                </a:solidFill>
                <a:uFillTx/>
                <a:latin typeface="Courier New"/>
              </a:rPr>
              <a:t>والسعر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Courier New"/>
              </a:rPr>
              <a:t> </a:t>
            </a:r>
            <a:r>
              <a:rPr b="1" lang="ar-SA" sz="3600" spc="-1" strike="noStrike" u="sng">
                <a:solidFill>
                  <a:srgbClr val="ffff99"/>
                </a:solidFill>
                <a:uFillTx/>
                <a:latin typeface="Courier New"/>
              </a:rPr>
              <a:t>وأسواق التوزيع والترويج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lnSpc>
                <a:spcPct val="130000"/>
              </a:lnSpc>
              <a:spcBef>
                <a:spcPts val="901"/>
              </a:spcBef>
              <a:buClr>
                <a:srgbClr val="13d955"/>
              </a:buClr>
              <a:buFont typeface="Wingdings" charset="2"/>
              <a:buChar char="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Courier New"/>
              </a:rPr>
              <a:t>تعتمد استراتيجية المزيج التسويقي على التناسق والتناغم بين العناصر الأربعة</a:t>
            </a:r>
            <a:r>
              <a:rPr b="1" lang="en-US" sz="3600" spc="-1" strike="noStrike">
                <a:solidFill>
                  <a:srgbClr val="ffcc00"/>
                </a:solidFill>
                <a:latin typeface="Courier Ne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just" rtl="1">
              <a:lnSpc>
                <a:spcPct val="130000"/>
              </a:lnSpc>
              <a:spcBef>
                <a:spcPts val="901"/>
              </a:spcBef>
              <a:buClr>
                <a:srgbClr val="13d955"/>
              </a:buClr>
              <a:buFont typeface="Wingdings" charset="2"/>
              <a:buChar char="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13d955"/>
                </a:solidFill>
                <a:latin typeface="Courier New"/>
              </a:rPr>
              <a:t>التوازن بين ما تنتجه الشركة والأساليب المستخدمة للوصول إلى الأسواق لتحقيق الربح المطلوب وإشباع الحاجات تحقيق الرغبات</a:t>
            </a:r>
            <a:r>
              <a:rPr b="1" lang="en-US" sz="3600" spc="-1" strike="noStrike">
                <a:solidFill>
                  <a:srgbClr val="13d955"/>
                </a:solidFill>
                <a:latin typeface="Tahoma"/>
                <a:ea typeface="Tahoma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EEC44-043A-4330-B70E-EF391F79DA2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ar-SA" sz="4400" spc="-1" strike="noStrike">
                <a:solidFill>
                  <a:srgbClr val="00ccff"/>
                </a:solidFill>
                <a:latin typeface="Times New Roman"/>
              </a:rPr>
              <a:t>تحليل</a:t>
            </a:r>
            <a:r>
              <a:rPr b="0" lang="ar-SA" sz="44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00ccff"/>
                </a:solidFill>
                <a:latin typeface="Times New Roman"/>
              </a:rPr>
              <a:t>المنافسين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-3276720" y="473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ar-SA" sz="3600" spc="-1" strike="noStrike">
                <a:solidFill>
                  <a:srgbClr val="00ccff"/>
                </a:solidFill>
                <a:latin typeface="Times New Roman"/>
              </a:rPr>
              <a:t>المنافسة الافتراضية</a:t>
            </a:r>
            <a:r>
              <a:rPr b="0" lang="en-US" sz="3600" spc="-1" strike="noStrike">
                <a:solidFill>
                  <a:srgbClr val="00ccff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c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57200" y="170028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spcBef>
                <a:spcPts val="1100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ahoma"/>
              </a:rPr>
              <a:t>ـ المنافسة المباشرة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1100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457200" y="2276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</a:rPr>
              <a:t>ـ المنافسة المتوقعة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457200" y="3483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</a:rPr>
              <a:t>ـ المنتجات البديلة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663480" y="4289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</a:rPr>
              <a:t>ـ تعزيز التواصل مع الممولين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46040" y="5157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</a:rPr>
              <a:t>ـ زوال التواصل مع الزبائن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25713-A0D2-4584-BB94-FBD8DC6B8BA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457200" y="380880"/>
            <a:ext cx="82296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800" spc="-1" strike="noStrike">
                <a:solidFill>
                  <a:srgbClr val="13d955"/>
                </a:solidFill>
                <a:latin typeface="Tahoma"/>
                <a:cs typeface="Tahoma"/>
              </a:rPr>
              <a:t>لجعل الهدف أكثر فاعلية نتعرف إلى ماهية القرارات المتعلقة باستراتيجيات التسوي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6F54F-D60C-4402-BBBA-7241EEDCBB7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14273c"/>
              </a:gs>
              <a:gs pos="50000">
                <a:srgbClr val="2b5481"/>
              </a:gs>
              <a:gs pos="100000">
                <a:srgbClr val="1427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000" spc="-1" strike="noStrike">
                <a:solidFill>
                  <a:srgbClr val="e5ffff"/>
                </a:solidFill>
                <a:latin typeface="Tahoma"/>
                <a:cs typeface="Tahoma"/>
              </a:rPr>
              <a:t>مفهوم الخطة الاستراتيجية للتسوي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13d955"/>
                </a:solidFill>
                <a:latin typeface="Tahoma"/>
                <a:cs typeface="Tahoma"/>
              </a:rPr>
              <a:t>ما المقصود بالإستراتيجية؟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هي مجموعة من الخطط توضع لتنفيذ هدف أو أهداف الشركة للوصول إلى تنفيذ رسالة  (أو غاية ) الشركة التي وضع الهدف من أجلها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60AE1-9768-40A6-B7FA-91FDDC6A0FD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Freeform 2"/>
          <p:cNvSpPr/>
          <p:nvPr/>
        </p:nvSpPr>
        <p:spPr>
          <a:xfrm>
            <a:off x="395280" y="907920"/>
            <a:ext cx="8424720" cy="4465800"/>
          </a:xfrm>
          <a:custGeom>
            <a:avLst/>
            <a:gdLst>
              <a:gd name="textAreaLeft" fmla="*/ 1307520 w 8424720"/>
              <a:gd name="textAreaRight" fmla="*/ 7117200 w 8424720"/>
              <a:gd name="textAreaTop" fmla="*/ 693000 h 4465800"/>
              <a:gd name="textAreaBottom" fmla="*/ 3772800 h 446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05" y="21600"/>
                </a:lnTo>
                <a:lnTo>
                  <a:pt x="1849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68360" y="692280"/>
            <a:ext cx="82296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ahoma"/>
                <a:cs typeface="Tahoma"/>
              </a:rPr>
              <a:t>لابد من تحديد استراتيجية التسويق باعتبار أن التسويق هو الهدف الأساسي لأي منشأ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55579-894E-4EA7-ADB6-879EB884DEC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68360" y="620640"/>
            <a:ext cx="822960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ما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ه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أهداف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شرك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كيف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يمكن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وضع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هذه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أهداف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بمعايير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كمي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ونوعي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ما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هو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وضع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حال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هل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أهدافنا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تسويقي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واقعي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فيما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يخص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فرص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والمخاطر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موجود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ف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أسواق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A1B8B-5AB0-49E9-98C8-E72325D43B3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3564000" y="380880"/>
            <a:ext cx="5122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 u="sng">
                <a:solidFill>
                  <a:srgbClr val="ffff99"/>
                </a:solidFill>
                <a:uFillTx/>
                <a:latin typeface="Courier New"/>
              </a:rPr>
              <a:t>الواقع التحليل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5720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 rtl="1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ahoma"/>
                <a:cs typeface="Tahoma"/>
              </a:rPr>
              <a:t>أن خطة التسويق الاستراتيجية يجب أن توضع من خلال التحليل التسويقي باستخدام الأدوات التالية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  <a:ea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04A22-E72E-4FF4-AD33-E0822C88651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324000" y="1052640"/>
            <a:ext cx="82296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خارج المنشأة لابد من إجراء مسح شامل لبيئة السوق، وتحليل لواقع المنافسة، وللمستهلك والوضع الاقتصادي، والحكومي، والتكنولوجي…الخ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8:59:46Z</dcterms:created>
  <dc:creator>pc</dc:creator>
  <dc:description/>
  <dc:language>en-US</dc:language>
  <cp:lastModifiedBy>M.A.S tech</cp:lastModifiedBy>
  <dcterms:modified xsi:type="dcterms:W3CDTF">2022-02-26T14:01:36Z</dcterms:modified>
  <cp:revision>105</cp:revision>
  <dc:subject/>
  <dc:title>تحديد نقاط الضعف والقوة والفرص والتحديات</dc:title>
</cp:coreProperties>
</file>